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08B3-8957-4341-9A7C-3B083B182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I’m Matthew Lindsey and for my project I am using my undergraduate thesis topic working with Professor Stan and the graduate EE student Wei Huang.  The topic is temperature aware circuits, and more specifically a temperature sensor for the interconnect lay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I have performed simulations like the ones that produced the previous slides graph for 130, 90, and 70 nm technology nodes, for metal 1, intermediate and global interconnect layers from 100C to 500C in steps of 50C.  These have shown that a temperature sensor for the interconnect layer is feasible and can accurately measure temperature.  Time constraints prevented simulating an interconnect model and temperature sensor circuit together for this class, however I still plan to for my thesis projec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re there any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overview of what I will be talking about today, starting with some background and why my project is unique.  Then I will take you through the steps I took including modelling the interconnect – choosing appropriate technology nodes to simulate, and calculating the size of the interconnect wires and their drivers.  Then I will show you the circuit used to calculate the temperature, and give you some of my results.  And I will wrap it all up in the conclu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is playing a large role in processor design today, and the current interconnect design methods are beginning to show signs of weakness.  The current techniques deal with self heating and electromigration separately (yielding non self consistent equations) since they are both temperature dependent.  For a quick review, self heating is just the increase in power consumed (or more importantly for me) temperature as high currents are pushed through small wires, leading to increased resistance, in turn leading to an increase in the current drawn.  Electromigration is the gradual process where ions in the conducting wire will actually be moved around leading to increased resistance and sometimes an open circuit.  This process usually takes more than 7-10 years.  Also currently there is no method to measure the temperature in the interconnect layers.  My work is based heavily on a few papers by Kaustaff Banerjee, the most influential being “Global Interconnect Warm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all know the interconnect can be modeled a number of different ways, I chose a 3RLC distributed model after trying a few approaches I found this to be accurate and simple enough.  I used physical parameters such as pitch and height, from the ITRS (or international roadmap for semiconductors), and using those numbers I can find the circuit parameters like resistance and capacitance from the Interconnect section of the PTM or predictive technology models website.  The size of the interconnect wire length and driver size is calculated based on Otten and Braytons paper “Planning for Performa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per I calculated values for Lcritical, or the length of the interconnect wire (shown here in microns), Soptimal or the optimal size of the driver (in multiples of the technology node), Rout in Ohms, or the output resistance of the driver, and Rline or the resistance of the line in Ohms.  These particular values are for the 90nm technology node taken for three types of levels of the interconnect given in the ITRS.  Note the red value as I have data relating to this later in the slide, it’s the length of the interconnect for a global layer in 90nm technolog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earlier the current equations are not self consistent, well here is the self consistant equation for temperature of the interconnect given by Banerjee in his papers.  R is the duty cycle as defined by the time on over the total period of a signal.  Tm is the new metal temperature and Tref is the reference temperature.  The rest of these values are physical parameters and correction factors.  When calculating I used physical parameters already calculated from the ITRS or PTM, and the correction factors from Banerjee’s pap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lotted the previous equation for a 70nm global interconnect layer and interesting to note is that as the duty cycle decreases the temperature rises.  This is noted in Banerjee’s paper as “one of the consequences of the self consistent equation is that for certain values of j0 as r decreases the self consistent temperature increases.”  J0 is a parameter found in the equation representing design rule current density stress that can be found in the ITRS repor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ing to the actual sensor, I used a modified ring oscialltor circuit.  You all know what a ring oscillator does, and my modification is placing a length of wire near the interconnect whose temperature I wish to measure.  As the interconnect heats up, so will this metal wire which is placed in the ring oscillator circuit as shown by R0 and C0, and as temperature increases the resistance changes in the metal wire leading to a change in the circuit frequency.  By measuring the change in frequency we can determine temperature.  By placing the wire between Vdd and the transistors we were able to obtain more stable frequencies for the circuit, the one concern is the current going through R0, if large enough it could contribute to the heating of the processor.  In my simulations with a reasonable number of inverters I found it to be an acceptable cur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reveal the frequency, by plugging in different numbers for the parameters representing a change in temperature in the interconnect I was able to plot the temperature Vs frequency for different technology nodes and interconnect layers.  If you remember the value that was in red, this graph corresponds to the simulation of a length of wire placed near that interconnect, which was about 156microns, however I have used a 150micron length of wi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96A7B-61F8-4F41-9E5F-E86D6BB64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12DA-C559-4D86-86C1-B4E7A0701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4D685-BB02-4734-B62A-E5E3EC48C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78E08-EDB0-43F5-AB77-89D104977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01D8-721A-41A5-B12A-2EA38AFE4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82F8-7F0F-4C56-BEC7-C69C52C5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8F88-76CF-4B35-AC13-B0A6BD5C4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5ED5-5218-4BAC-ADF9-BAF550121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396F8-C69F-4D8C-AB5B-A3407AC01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E3B6-768A-4663-B9BE-96001CE0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559A6-FCAF-47D0-B249-451F15A8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2E40-5046-46F2-85C3-883737DAF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1F54-653C-4BB0-8C47-B11ABC4CE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ware Circui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mperature Sensor in the Interconnect Layer</a:t>
            </a:r>
            <a:endParaRPr b="0" lang="en-US" sz="3200" spc="-1" strike="noStrike">
              <a:solidFill>
                <a:srgbClr val="000000"/>
              </a:solidFill>
              <a:latin typeface="Arial"/>
            </a:endParaRPr>
          </a:p>
        </p:txBody>
      </p:sp>
      <p:sp>
        <p:nvSpPr>
          <p:cNvPr id="50" name=""/>
          <p:cNvSpPr/>
          <p:nvPr/>
        </p:nvSpPr>
        <p:spPr>
          <a:xfrm>
            <a:off x="6175440" y="54100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thew Linds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Perform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 90nm, 70nm, for metal 1, intermediate and global interconnect for 100C to 500C in steps of 50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Temperature Sensor will be Effective in those Simu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nstraints Prevented Interconnect Model and Circuit Together in Same S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 the Interconn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Sensor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interconnect design falls sho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ating and electromigration both temperature depen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rrent technique to measure temperature in the interconn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ased on Banerjee’s wor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connec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parameters from IT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it parameters from PT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size (length and buffer siz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Planning by Otten and Brayt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al Size</a:t>
            </a:r>
            <a:endParaRPr b="0" lang="en-US" sz="4400" spc="-1" strike="noStrike">
              <a:solidFill>
                <a:srgbClr val="000000"/>
              </a:solidFill>
              <a:latin typeface="Arial"/>
            </a:endParaRPr>
          </a:p>
        </p:txBody>
      </p:sp>
      <p:graphicFrame>
        <p:nvGraphicFramePr>
          <p:cNvPr id="58" name=""/>
          <p:cNvGraphicFramePr/>
          <p:nvPr/>
        </p:nvGraphicFramePr>
        <p:xfrm>
          <a:off x="457200" y="1600200"/>
          <a:ext cx="8229240" cy="4525560"/>
        </p:xfrm>
        <a:graphic>
          <a:graphicData uri="http://schemas.openxmlformats.org/drawingml/2006/table">
            <a:tbl>
              <a:tblPr/>
              <a:tblGrid>
                <a:gridCol w="1645920"/>
                <a:gridCol w="1645920"/>
                <a:gridCol w="1645560"/>
                <a:gridCol w="1645920"/>
                <a:gridCol w="1645920"/>
              </a:tblGrid>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 90n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rit (u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p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 (Oh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line (Oh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1.0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156.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8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9.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Consistent Equation</a:t>
            </a:r>
            <a:endParaRPr b="0" lang="en-US" sz="4400" spc="-1" strike="noStrike">
              <a:solidFill>
                <a:srgbClr val="000000"/>
              </a:solidFill>
              <a:latin typeface="Arial"/>
            </a:endParaRPr>
          </a:p>
        </p:txBody>
      </p:sp>
      <p:graphicFrame>
        <p:nvGraphicFramePr>
          <p:cNvPr id="60" name=""/>
          <p:cNvGraphicFramePr/>
          <p:nvPr/>
        </p:nvGraphicFramePr>
        <p:xfrm>
          <a:off x="457200" y="1219320"/>
          <a:ext cx="8001000" cy="3122640"/>
        </p:xfrm>
        <a:graphic>
          <a:graphicData uri="http://schemas.openxmlformats.org/presentationml/2006/ole">
            <p:oleObj r:id="rId1" spid="">
              <p:embed/>
              <p:pic>
                <p:nvPicPr>
                  <p:cNvPr id="61" name="" descr=""/>
                  <p:cNvPicPr/>
                  <p:nvPr/>
                </p:nvPicPr>
                <p:blipFill>
                  <a:blip r:embed="rId2"/>
                  <a:stretch/>
                </p:blipFill>
                <p:spPr>
                  <a:xfrm>
                    <a:off x="457200" y="1219320"/>
                    <a:ext cx="8001000" cy="3122640"/>
                  </a:xfrm>
                  <a:prstGeom prst="rect">
                    <a:avLst/>
                  </a:prstGeom>
                  <a:ln w="0">
                    <a:noFill/>
                  </a:ln>
                </p:spPr>
              </p:pic>
            </p:oleObj>
          </a:graphicData>
        </a:graphic>
      </p:graphicFrame>
      <p:sp>
        <p:nvSpPr>
          <p:cNvPr id="62" name=""/>
          <p:cNvSpPr/>
          <p:nvPr/>
        </p:nvSpPr>
        <p:spPr>
          <a:xfrm>
            <a:off x="6555960" y="43434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erjee</a:t>
            </a:r>
            <a:endParaRPr b="0" lang="en-US" sz="1800" spc="-1" strike="noStrike">
              <a:solidFill>
                <a:srgbClr val="000000"/>
              </a:solidFill>
              <a:latin typeface="Arial"/>
            </a:endParaRPr>
          </a:p>
        </p:txBody>
      </p:sp>
      <p:sp>
        <p:nvSpPr>
          <p:cNvPr id="63" name=""/>
          <p:cNvSpPr/>
          <p:nvPr/>
        </p:nvSpPr>
        <p:spPr>
          <a:xfrm>
            <a:off x="457200" y="4952880"/>
            <a:ext cx="7635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822240" y="5065560"/>
            <a:ext cx="458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duty cycle to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m: new metal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0nm: Global Interconnect Layer</a:t>
            </a:r>
            <a:endParaRPr b="0" lang="en-US" sz="4000" spc="-1" strike="noStrike">
              <a:solidFill>
                <a:srgbClr val="000000"/>
              </a:solidFill>
              <a:latin typeface="Arial"/>
            </a:endParaRPr>
          </a:p>
        </p:txBody>
      </p:sp>
      <p:graphicFrame>
        <p:nvGraphicFramePr>
          <p:cNvPr id="66" name=""/>
          <p:cNvGraphicFramePr/>
          <p:nvPr/>
        </p:nvGraphicFramePr>
        <p:xfrm>
          <a:off x="380880" y="1523880"/>
          <a:ext cx="8001000" cy="5100840"/>
        </p:xfrm>
        <a:graphic>
          <a:graphicData uri="http://schemas.openxmlformats.org/presentationml/2006/ole">
            <p:oleObj r:id="rId1" spid="">
              <p:embed/>
              <p:pic>
                <p:nvPicPr>
                  <p:cNvPr id="67" name="" descr=""/>
                  <p:cNvPicPr/>
                  <p:nvPr/>
                </p:nvPicPr>
                <p:blipFill>
                  <a:blip r:embed="rId2"/>
                  <a:stretch/>
                </p:blipFill>
                <p:spPr>
                  <a:xfrm>
                    <a:off x="380880" y="1523880"/>
                    <a:ext cx="8001000" cy="510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4400" spc="-1" strike="noStrike">
                <a:solidFill>
                  <a:srgbClr val="000000"/>
                </a:solidFill>
                <a:latin typeface="Arial"/>
              </a:rPr>
              <a:t> </a:t>
            </a:r>
            <a:r>
              <a:rPr b="0" lang="en-US" sz="3200" spc="-1" strike="noStrike">
                <a:solidFill>
                  <a:srgbClr val="000000"/>
                </a:solidFill>
                <a:latin typeface="Arial"/>
              </a:rPr>
              <a:t>Sensor</a:t>
            </a:r>
            <a:endParaRPr b="0" lang="en-US" sz="3200" spc="-1" strike="noStrike">
              <a:solidFill>
                <a:srgbClr val="000000"/>
              </a:solidFill>
              <a:latin typeface="Arial"/>
            </a:endParaRPr>
          </a:p>
        </p:txBody>
      </p:sp>
      <p:sp>
        <p:nvSpPr>
          <p:cNvPr id="69" name="PlaceHolder 2"/>
          <p:cNvSpPr>
            <a:spLocks noGrp="1"/>
          </p:cNvSpPr>
          <p:nvPr>
            <p:ph/>
          </p:nvPr>
        </p:nvSpPr>
        <p:spPr>
          <a:xfrm>
            <a:off x="380880" y="533520"/>
            <a:ext cx="7467840" cy="761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a:t>
            </a:r>
            <a:r>
              <a:rPr b="0" lang="en-US" sz="2800" spc="-1" strike="noStrike">
                <a:solidFill>
                  <a:srgbClr val="000000"/>
                </a:solidFill>
                <a:latin typeface="Arial"/>
              </a:rPr>
              <a:t> </a:t>
            </a:r>
            <a:r>
              <a:rPr b="0" lang="en-US" sz="2400" spc="-1" strike="noStrike">
                <a:solidFill>
                  <a:srgbClr val="000000"/>
                </a:solidFill>
                <a:latin typeface="Arial"/>
              </a:rPr>
              <a:t>ring oscillator circu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0" y="1033560"/>
            <a:ext cx="9067680" cy="582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son 100C to 500C</a:t>
            </a:r>
            <a:endParaRPr b="0" lang="en-US" sz="3600" spc="-1" strike="noStrike">
              <a:solidFill>
                <a:srgbClr val="000000"/>
              </a:solidFill>
              <a:latin typeface="Arial"/>
            </a:endParaRPr>
          </a:p>
        </p:txBody>
      </p:sp>
      <p:sp>
        <p:nvSpPr>
          <p:cNvPr id="72" name="PlaceHolder 2"/>
          <p:cNvSpPr>
            <a:spLocks noGrp="1"/>
          </p:cNvSpPr>
          <p:nvPr>
            <p:ph/>
          </p:nvPr>
        </p:nvSpPr>
        <p:spPr>
          <a:xfrm>
            <a:off x="304920" y="609480"/>
            <a:ext cx="861048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nm, global interconnect layer, using 150um length of wi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 name=""/>
          <p:cNvGraphicFramePr/>
          <p:nvPr/>
        </p:nvGraphicFramePr>
        <p:xfrm>
          <a:off x="0" y="1066680"/>
          <a:ext cx="9144000" cy="5791320"/>
        </p:xfrm>
        <a:graphic>
          <a:graphicData uri="http://schemas.openxmlformats.org/presentationml/2006/ole">
            <p:oleObj progId="Excel.Sheet.12" r:id="rId1" spid="">
              <p:embed/>
              <p:pic>
                <p:nvPicPr>
                  <p:cNvPr id="74" name="" descr=""/>
                  <p:cNvPicPr/>
                  <p:nvPr/>
                </p:nvPicPr>
                <p:blipFill>
                  <a:blip r:embed="rId2"/>
                  <a:stretch/>
                </p:blipFill>
                <p:spPr>
                  <a:xfrm>
                    <a:off x="0" y="1066680"/>
                    <a:ext cx="9144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32:02Z</dcterms:created>
  <dc:creator>matt</dc:creator>
  <dc:description/>
  <dc:language>en-US</dc:language>
  <cp:lastModifiedBy>matt</cp:lastModifiedBy>
  <dcterms:modified xsi:type="dcterms:W3CDTF">2006-11-30T13:47:03Z</dcterms:modified>
  <cp:revision>59</cp:revision>
  <dc:subject/>
  <dc:title>Temperature Aware Circuits</dc:title>
</cp:coreProperties>
</file>